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267-2307-4925-89A1-99475738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010-952B-459B-AAC8-CA7826CB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8D8-9657-403C-A462-032A9C27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18D-6C43-4BF4-91C2-1B668477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D80-2B9D-4160-B7B6-12C97E00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2F3-A9E2-4424-B612-DDAB626A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8AE-0EC9-457A-A14D-687753B7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769-4F52-4FFE-8C97-180D0EA0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7F2-F8E8-4407-B392-BC5D5233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260-EB5E-4C12-81E9-60191877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D8A-DD20-42EF-80F0-AB3D4DB4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F30-7AB2-4C64-9C3E-1D6CB534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6CAA-FB76-4F99-BA96-CB57659CA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286000"/>
            <a:ext cx="831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Joint Versus Margin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34585" r="0" b="34414"/>
          <a:stretch/>
        </p:blipFill>
        <p:spPr>
          <a:xfrm>
            <a:off x="304920" y="1219320"/>
            <a:ext cx="815328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8153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33400" r="0" b="37988"/>
          <a:stretch/>
        </p:blipFill>
        <p:spPr>
          <a:xfrm>
            <a:off x="380880" y="1143000"/>
            <a:ext cx="845820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65595" r="0" b="26062"/>
          <a:stretch/>
        </p:blipFill>
        <p:spPr>
          <a:xfrm>
            <a:off x="380880" y="2895480"/>
            <a:ext cx="8458200" cy="609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8305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33400" r="0" b="37988"/>
          <a:stretch/>
        </p:blipFill>
        <p:spPr>
          <a:xfrm>
            <a:off x="380880" y="1143000"/>
            <a:ext cx="84582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73948" r="0" b="11746"/>
          <a:stretch/>
        </p:blipFill>
        <p:spPr>
          <a:xfrm>
            <a:off x="380880" y="2895480"/>
            <a:ext cx="84582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8305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3756"/>
          <a:stretch/>
        </p:blipFill>
        <p:spPr>
          <a:xfrm>
            <a:off x="457200" y="7621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738"/>
          <a:stretch/>
        </p:blipFill>
        <p:spPr>
          <a:xfrm>
            <a:off x="609480" y="685800"/>
            <a:ext cx="8001000" cy="5519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86400" y="144792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(C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11746"/>
          <a:stretch/>
        </p:blipFill>
        <p:spPr>
          <a:xfrm>
            <a:off x="609480" y="736560"/>
            <a:ext cx="7772400" cy="546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5720" y="5867280"/>
            <a:ext cx="16002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1600200"/>
            <a:ext cx="2514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7017"/>
          <a:stretch/>
        </p:blipFill>
        <p:spPr>
          <a:xfrm>
            <a:off x="914400" y="228600"/>
            <a:ext cx="7391520" cy="4386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238880" cy="1770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62720" y="914400"/>
            <a:ext cx="25905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5766"/>
          <a:stretch/>
        </p:blipFill>
        <p:spPr>
          <a:xfrm>
            <a:off x="1523880" y="1523880"/>
            <a:ext cx="6400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42122" r="0" b="35201"/>
          <a:stretch/>
        </p:blipFill>
        <p:spPr>
          <a:xfrm>
            <a:off x="1066680" y="1752480"/>
            <a:ext cx="7239240" cy="129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7010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41041" r="0" b="48161"/>
          <a:stretch/>
        </p:blipFill>
        <p:spPr>
          <a:xfrm>
            <a:off x="685800" y="1143000"/>
            <a:ext cx="807732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64808" r="0" b="22241"/>
          <a:stretch/>
        </p:blipFill>
        <p:spPr>
          <a:xfrm>
            <a:off x="685800" y="1884240"/>
            <a:ext cx="8077320" cy="782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2666880"/>
            <a:ext cx="80773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762120" y="895320"/>
            <a:ext cx="77724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30800" y="23432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43203" r="0" b="48170"/>
          <a:stretch/>
        </p:blipFill>
        <p:spPr>
          <a:xfrm>
            <a:off x="304920" y="2057400"/>
            <a:ext cx="8380440" cy="622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76953" r="0" b="15766"/>
          <a:stretch/>
        </p:blipFill>
        <p:spPr>
          <a:xfrm>
            <a:off x="303120" y="2666880"/>
            <a:ext cx="8382240" cy="457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8305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11746"/>
          <a:stretch/>
        </p:blipFill>
        <p:spPr>
          <a:xfrm>
            <a:off x="457200" y="685800"/>
            <a:ext cx="838188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457200" y="609480"/>
            <a:ext cx="82296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5766"/>
          <a:stretch/>
        </p:blipFill>
        <p:spPr>
          <a:xfrm>
            <a:off x="457200" y="762120"/>
            <a:ext cx="8153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30736" r="0" b="15766"/>
          <a:stretch/>
        </p:blipFill>
        <p:spPr>
          <a:xfrm>
            <a:off x="609480" y="380880"/>
            <a:ext cx="8153640" cy="358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7924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7766"/>
          <a:stretch/>
        </p:blipFill>
        <p:spPr>
          <a:xfrm>
            <a:off x="380880" y="914400"/>
            <a:ext cx="830592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31210" r="0" b="17766"/>
          <a:stretch/>
        </p:blipFill>
        <p:spPr>
          <a:xfrm>
            <a:off x="533520" y="380880"/>
            <a:ext cx="8305560" cy="3489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8077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533520" y="838080"/>
            <a:ext cx="79246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1746"/>
          <a:stretch/>
        </p:blipFill>
        <p:spPr>
          <a:xfrm>
            <a:off x="380880" y="609480"/>
            <a:ext cx="8458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9:17:01Z</dcterms:created>
  <dc:creator>david g. kleinbaum</dc:creator>
  <dc:description/>
  <dc:language>en-US</dc:language>
  <cp:lastModifiedBy>dkleinb</cp:lastModifiedBy>
  <dcterms:modified xsi:type="dcterms:W3CDTF">2003-10-28T14:48:54Z</dcterms:modified>
  <cp:revision>33</cp:revision>
  <dc:subject/>
  <dc:title> Confounding Involving Several Risk Factors</dc:title>
</cp:coreProperties>
</file>